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92A-04F5-4055-81FF-9B67F384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85F-FD24-454C-83E5-B6CFA348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2C6-0BB7-4298-B6EA-C3B72235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CDE-5D92-45C3-9E11-129A9BAD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CD5-6932-4094-BC14-67EB5371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5EB-AE20-4A5E-872A-BC3A0F0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E6A-7CA7-468F-8A33-CF115C03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38E-5B2F-439C-BB4C-9D6823E5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298-F063-4F65-B086-9F2B8C39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C33-E798-47BD-8344-28C0F6BA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F07-72E4-4490-B32C-BCBC906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6D2-C662-48FF-B162-22698E0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14CE-4F2F-49F5-A68C-78E41E75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eakest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nn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53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overview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9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verview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Mark E. Damon</cp:lastModifiedBy>
  <dcterms:modified xsi:type="dcterms:W3CDTF">2002-06-11T01:13:17Z</dcterms:modified>
  <cp:revision>15</cp:revision>
  <dc:subject/>
  <dc:title>No Slide Title</dc:title>
</cp:coreProperties>
</file>